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749-64FD-4182-BB64-E58AD0EE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29E-18F0-405C-A78F-F8602CC3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7B8-8165-4DA3-B9DE-800D99EC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244-7F53-4A3D-8C92-BD20BAE1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B16-1DD4-4277-B8B5-2C663766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D731-1492-4142-9CF2-3C8E7AE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B70B-54B5-48F7-A90F-56F25BC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E2BD-5553-4B0D-A738-733CC7F1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DD6-081D-4A8D-9ADC-8D8E2F3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379-41FD-4E86-A6F1-72FDB5A1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A72-AB67-40B9-8E0D-76140A8E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348-5E04-49E9-967F-9FE10769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7243-E001-45C4-B831-3EE06C3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FFAE-D1B0-4862-81D7-6F6D1D0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E0DB-7354-49F2-89E8-A98612C8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7631-B386-46D3-977F-D08C056B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02E2-4556-4E17-B849-AE161E6F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3FC-6878-481F-AF2A-D4E4878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0B1-76E8-4223-B73F-1929352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FC3-1501-47DC-8F19-BA1D30A7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23E-F36D-4587-B4EF-2B888891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D40-C386-42CA-A981-3A3C903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C63-A986-439A-9E17-B2FAD69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0EA-C078-46CA-9209-EFD3E6C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DCF3-4F00-4B0C-869D-800E627C340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4D62-737F-48B6-859A-851CAE1A2D6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omic Sans MS"/>
                <a:ea typeface="黑体"/>
              </a:rPr>
              <a:t>美妙的琴声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阿姨会拉琴，琴声真好听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759120" y="-28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885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93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280" y="404640"/>
            <a:ext cx="90727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2:58:32Z</dcterms:created>
  <dc:creator>微软用户</dc:creator>
  <dc:description/>
  <dc:language>en-US</dc:language>
  <cp:lastModifiedBy>微软用户</cp:lastModifiedBy>
  <dcterms:modified xsi:type="dcterms:W3CDTF">2013-10-14T13:29:25Z</dcterms:modified>
  <cp:revision>3</cp:revision>
  <dc:subject/>
  <dc:title>美妙的琴声</dc:title>
</cp:coreProperties>
</file>